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512-B37D-4B37-88D5-4E873B82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8CE-D310-45EE-B49D-1FC0DCD9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432-6850-4A78-A7E7-8FEE4B85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A4F-2AC6-4688-B169-44448CC7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754-CFCE-4D5A-A3F8-F5F51C5A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9D5-12F6-45A8-95B5-7D3E5AE5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FE0-2C15-4FDA-855B-F125A28A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714-5E1B-4F29-8A14-EC0B2C5D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A5D-61E3-484A-9B1B-58105A92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5E1-B2F2-4D8F-9123-5FE42910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8FA-72E9-4CFA-981F-36E33441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A75-A934-4CF2-B934-A1CB498F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9510-A6B6-4FA5-A7C0-55B21C4EC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the-secret-life-of-bees"/>
          <p:cNvPicPr/>
          <p:nvPr/>
        </p:nvPicPr>
        <p:blipFill>
          <a:blip r:embed="rId2"/>
          <a:stretch/>
        </p:blipFill>
        <p:spPr>
          <a:xfrm>
            <a:off x="3200400" y="0"/>
            <a:ext cx="2948040" cy="464832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 rot="21388200">
            <a:off x="837720" y="4495680"/>
            <a:ext cx="7545600" cy="21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ocab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2280" y="15228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Only a pharmacist can </a:t>
            </a:r>
            <a:r>
              <a:rPr b="1" lang="en-US" sz="6000" spc="-1" strike="noStrike" u="sng">
                <a:solidFill>
                  <a:srgbClr val="333399"/>
                </a:solidFill>
                <a:uFillTx/>
                <a:latin typeface="Century Gothic"/>
              </a:rPr>
              <a:t>dispense</a:t>
            </a: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 prescription medication.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3151080"/>
            <a:ext cx="91440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entury Gothic"/>
              </a:rPr>
              <a:t>My mother is always trying to </a:t>
            </a:r>
            <a:r>
              <a:rPr b="1" lang="en-US" sz="5500" spc="-1" strike="noStrike" u="sng">
                <a:solidFill>
                  <a:srgbClr val="000000"/>
                </a:solidFill>
                <a:uFillTx/>
                <a:latin typeface="Century Gothic"/>
              </a:rPr>
              <a:t>dispense</a:t>
            </a:r>
            <a:r>
              <a:rPr b="1" lang="en-US" sz="5500" spc="-1" strike="noStrike">
                <a:solidFill>
                  <a:srgbClr val="000000"/>
                </a:solidFill>
                <a:latin typeface="Century Gothic"/>
              </a:rPr>
              <a:t> her advice about my love life, even when I don’t want it. 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aptitu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3048120"/>
            <a:ext cx="87631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natural talent and abilit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905120" y="17524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noun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28600" y="398520"/>
            <a:ext cx="86868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333399"/>
                </a:solidFill>
                <a:latin typeface="Century Gothic"/>
              </a:rPr>
              <a:t>I have always lacked confidence in my math </a:t>
            </a:r>
            <a:r>
              <a:rPr b="1" lang="en-US" sz="6400" spc="-1" strike="noStrike" u="sng">
                <a:solidFill>
                  <a:srgbClr val="333399"/>
                </a:solidFill>
                <a:uFillTx/>
                <a:latin typeface="Century Gothic"/>
              </a:rPr>
              <a:t>aptitude</a:t>
            </a:r>
            <a:r>
              <a:rPr b="1" lang="en-US" sz="6400" spc="-1" strike="noStrike">
                <a:solidFill>
                  <a:srgbClr val="333399"/>
                </a:solidFill>
                <a:latin typeface="Century Gothic"/>
              </a:rPr>
              <a:t>, and never liked participating in math class. 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990720" y="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ascri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280" y="2209680"/>
            <a:ext cx="8839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Garamond"/>
              </a:rPr>
              <a:t>To think of as coming from a particular cause, source, or author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905120" y="13255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verb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28600" y="0"/>
            <a:ext cx="8686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I </a:t>
            </a:r>
            <a:r>
              <a:rPr b="1" lang="en-US" sz="7500" spc="-1" strike="noStrike" u="sng">
                <a:solidFill>
                  <a:srgbClr val="333399"/>
                </a:solidFill>
                <a:uFillTx/>
                <a:latin typeface="Century Gothic"/>
              </a:rPr>
              <a:t>ascribed</a:t>
            </a: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 my brother’s bad mood to all the overtime hours he had to work this week. 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990720" y="3808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despic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2854440"/>
            <a:ext cx="883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0" spc="-1" strike="noStrike">
                <a:solidFill>
                  <a:srgbClr val="000000"/>
                </a:solidFill>
                <a:latin typeface="Garamond"/>
              </a:rPr>
              <a:t>horrible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905120" y="185904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adjective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28600" y="0"/>
            <a:ext cx="8686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I find it </a:t>
            </a:r>
            <a:r>
              <a:rPr b="1" lang="en-US" sz="7500" spc="-1" strike="noStrike" u="sng">
                <a:solidFill>
                  <a:srgbClr val="333399"/>
                </a:solidFill>
                <a:uFillTx/>
                <a:latin typeface="Century Gothic"/>
              </a:rPr>
              <a:t>despicable</a:t>
            </a: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 when people make judgments about others based on their skin color. 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yok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52280" y="3048120"/>
            <a:ext cx="87631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a restrictive or repressive forc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905120" y="17524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noun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149400"/>
            <a:ext cx="8686800" cy="75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The colonists revolted against the </a:t>
            </a:r>
            <a:r>
              <a:rPr b="1" lang="en-US" sz="7000" spc="-1" strike="noStrike" u="sng">
                <a:solidFill>
                  <a:srgbClr val="333399"/>
                </a:solidFill>
                <a:uFillTx/>
                <a:latin typeface="Century Gothic"/>
              </a:rPr>
              <a:t>yoke</a:t>
            </a: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 of political oppression forced on them by the British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990720" y="3808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inn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28600" y="2854440"/>
            <a:ext cx="8839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possessed at birth; inheren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905120" y="185904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adjective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1600200"/>
            <a:ext cx="91440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333399"/>
                </a:solidFill>
                <a:latin typeface="Bernard MT Condensed"/>
                <a:ea typeface="Aharoni"/>
              </a:rPr>
              <a:t>Chapters         Seven - Ten</a:t>
            </a:r>
            <a:r>
              <a:rPr b="0" lang="en-US" sz="11000" spc="-1" strike="noStrike">
                <a:solidFill>
                  <a:srgbClr val="333399"/>
                </a:solidFill>
                <a:latin typeface="Aharoni"/>
                <a:ea typeface="Aharoni"/>
              </a:rPr>
              <a:t> 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8600" y="149400"/>
            <a:ext cx="86868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The motivational speaker seemed to have an </a:t>
            </a:r>
            <a:r>
              <a:rPr b="1" lang="en-US" sz="7000" spc="-1" strike="noStrike" u="sng">
                <a:solidFill>
                  <a:srgbClr val="333399"/>
                </a:solidFill>
                <a:uFillTx/>
                <a:latin typeface="Century Gothic"/>
              </a:rPr>
              <a:t>innate</a:t>
            </a: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 ability to inspire huge crowds of people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990720" y="3808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shiftl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2854440"/>
            <a:ext cx="8839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Lazy; lacking ambitio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905120" y="185904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adjective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225360"/>
            <a:ext cx="86868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After studying in a </a:t>
            </a:r>
            <a:r>
              <a:rPr b="1" lang="en-US" sz="7000" spc="-1" strike="noStrike" u="sng">
                <a:solidFill>
                  <a:srgbClr val="333399"/>
                </a:solidFill>
                <a:uFillTx/>
                <a:latin typeface="Century Gothic"/>
              </a:rPr>
              <a:t>shiftless</a:t>
            </a: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 way, the boy was not surprised that he failed his science test. 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990720" y="3808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obli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28600" y="2854440"/>
            <a:ext cx="8839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Completely unawa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05120" y="185904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adjective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225360"/>
            <a:ext cx="86868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The little fish were completely </a:t>
            </a:r>
            <a:r>
              <a:rPr b="1" lang="en-US" sz="7000" spc="-1" strike="noStrike" u="sng">
                <a:solidFill>
                  <a:srgbClr val="333399"/>
                </a:solidFill>
                <a:uFillTx/>
                <a:latin typeface="Century Gothic"/>
              </a:rPr>
              <a:t>oblivious</a:t>
            </a:r>
            <a:r>
              <a:rPr b="1" lang="en-US" sz="7000" spc="-1" strike="noStrike">
                <a:solidFill>
                  <a:srgbClr val="333399"/>
                </a:solidFill>
                <a:latin typeface="Century Gothic"/>
              </a:rPr>
              <a:t> to the shark lurking in the reef, waiting to devour them.  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crevi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52280" y="3200400"/>
            <a:ext cx="8763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narrow crack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905120" y="185904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noun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28600" y="0"/>
            <a:ext cx="8686800" cy="70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333399"/>
                </a:solidFill>
                <a:latin typeface="Century Gothic"/>
              </a:rPr>
              <a:t>It took me ten minutes to pull my keys out of the </a:t>
            </a:r>
            <a:r>
              <a:rPr b="1" lang="en-US" sz="6500" spc="-1" strike="noStrike" u="sng">
                <a:solidFill>
                  <a:srgbClr val="333399"/>
                </a:solidFill>
                <a:uFillTx/>
                <a:latin typeface="Century Gothic"/>
              </a:rPr>
              <a:t>crevice</a:t>
            </a:r>
            <a:r>
              <a:rPr b="1" lang="en-US" sz="6500" spc="-1" strike="noStrike">
                <a:solidFill>
                  <a:srgbClr val="333399"/>
                </a:solidFill>
                <a:latin typeface="Century Gothic"/>
              </a:rPr>
              <a:t> between the two seats in the car after I dropped them.  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1522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conco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52280" y="2637000"/>
            <a:ext cx="8839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invent;        make up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905120" y="1782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verb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385920"/>
            <a:ext cx="868680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Lily </a:t>
            </a:r>
            <a:r>
              <a:rPr b="1" lang="en-US" sz="7500" spc="-1" strike="noStrike" u="sng">
                <a:solidFill>
                  <a:srgbClr val="333399"/>
                </a:solidFill>
                <a:uFillTx/>
                <a:latin typeface="Century Gothic"/>
              </a:rPr>
              <a:t>concocted</a:t>
            </a: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 an ingenious plan to help Rosaleen escape from the hospital.  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990720" y="1522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lop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2362320"/>
            <a:ext cx="8839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To walk with long, slow, easy strid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905120" y="16002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verb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ke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2280" y="2362320"/>
            <a:ext cx="876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Garamond"/>
              </a:rPr>
              <a:t>collapse or fal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905120" y="17524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verb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80880" y="385920"/>
            <a:ext cx="838224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The hurt deer </a:t>
            </a:r>
            <a:r>
              <a:rPr b="1" lang="en-US" sz="7500" spc="-1" strike="noStrike" u="sng">
                <a:solidFill>
                  <a:srgbClr val="333399"/>
                </a:solidFill>
                <a:uFillTx/>
                <a:latin typeface="Century Gothic"/>
              </a:rPr>
              <a:t>loped</a:t>
            </a: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 across the field, looking for a safe place to rest.  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in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52280" y="2438280"/>
            <a:ext cx="876312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8500" spc="-1" strike="noStrike">
                <a:solidFill>
                  <a:srgbClr val="000000"/>
                </a:solidFill>
                <a:latin typeface="Garamond"/>
              </a:rPr>
              <a:t>a first experience of something; an introduction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905120" y="16765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noun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-76320"/>
            <a:ext cx="83822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The parents were so proud to watch their child’s </a:t>
            </a:r>
            <a:r>
              <a:rPr b="1" lang="en-US" sz="7500" spc="-1" strike="noStrike" u="sng">
                <a:solidFill>
                  <a:srgbClr val="333399"/>
                </a:solidFill>
                <a:uFillTx/>
                <a:latin typeface="Century Gothic"/>
              </a:rPr>
              <a:t>induction</a:t>
            </a:r>
            <a:r>
              <a:rPr b="1" lang="en-US" sz="7500" spc="-1" strike="noStrike">
                <a:solidFill>
                  <a:srgbClr val="333399"/>
                </a:solidFill>
                <a:latin typeface="Century Gothic"/>
              </a:rPr>
              <a:t> into the National Honor Society. 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280" y="0"/>
            <a:ext cx="87631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Century Gothic"/>
              </a:rPr>
              <a:t>Suffering from dehydration, the sick woman </a:t>
            </a:r>
            <a:r>
              <a:rPr b="1" lang="en-US" sz="5000" spc="-1" strike="noStrike" u="sng">
                <a:solidFill>
                  <a:srgbClr val="333399"/>
                </a:solidFill>
                <a:uFillTx/>
                <a:latin typeface="Century Gothic"/>
              </a:rPr>
              <a:t>keeled</a:t>
            </a:r>
            <a:r>
              <a:rPr b="1" lang="en-US" sz="5000" spc="-1" strike="noStrike">
                <a:solidFill>
                  <a:srgbClr val="333399"/>
                </a:solidFill>
                <a:latin typeface="Century Gothic"/>
              </a:rPr>
              <a:t> over in the middle of the store and had to be revived by a paramedic.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228600" y="4191120"/>
            <a:ext cx="8763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entury Gothic"/>
              </a:rPr>
              <a:t>The huge waves during the storm caused  the sailboat to 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Century Gothic"/>
              </a:rPr>
              <a:t>keel</a:t>
            </a:r>
            <a:r>
              <a:rPr b="1" lang="en-US" sz="5000" spc="-1" strike="noStrike">
                <a:solidFill>
                  <a:srgbClr val="000000"/>
                </a:solidFill>
                <a:latin typeface="Century Gothic"/>
              </a:rPr>
              <a:t> over onto its sid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remna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52280" y="3048120"/>
            <a:ext cx="87631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Garamond"/>
              </a:rPr>
              <a:t>small leftover amount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905120" y="17524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noun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320" y="398520"/>
            <a:ext cx="8991360" cy="69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333399"/>
                </a:solidFill>
                <a:latin typeface="Century Gothic"/>
              </a:rPr>
              <a:t>All weekend I cried as I watched the footage of the </a:t>
            </a:r>
            <a:r>
              <a:rPr b="1" lang="en-US" sz="6400" spc="-1" strike="noStrike" u="sng">
                <a:solidFill>
                  <a:srgbClr val="333399"/>
                </a:solidFill>
                <a:uFillTx/>
                <a:latin typeface="Century Gothic"/>
              </a:rPr>
              <a:t>remnants</a:t>
            </a:r>
            <a:r>
              <a:rPr b="1" lang="en-US" sz="6400" spc="-1" strike="noStrike">
                <a:solidFill>
                  <a:srgbClr val="333399"/>
                </a:solidFill>
                <a:latin typeface="Century Gothic"/>
              </a:rPr>
              <a:t> of cities and towns destroyed by the Tsunami in Japan. 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restr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52280" y="2532240"/>
            <a:ext cx="87631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Garamond"/>
              </a:rPr>
              <a:t>To hold back or keep under control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905120" y="17524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verb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0"/>
            <a:ext cx="8763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Century Gothic"/>
              </a:rPr>
              <a:t>A seatbelt can </a:t>
            </a:r>
            <a:r>
              <a:rPr b="1" lang="en-US" sz="5000" spc="-1" strike="noStrike" u="sng">
                <a:solidFill>
                  <a:srgbClr val="333399"/>
                </a:solidFill>
                <a:uFillTx/>
                <a:latin typeface="Century Gothic"/>
              </a:rPr>
              <a:t>restrain</a:t>
            </a:r>
            <a:r>
              <a:rPr b="1" lang="en-US" sz="5000" spc="-1" strike="noStrike">
                <a:solidFill>
                  <a:srgbClr val="333399"/>
                </a:solidFill>
                <a:latin typeface="Century Gothic"/>
              </a:rPr>
              <a:t> someone from hitting their head on the windshield in an accident.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28600" y="3352680"/>
            <a:ext cx="8763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entury Gothic"/>
              </a:rPr>
              <a:t>I was unable to 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Century Gothic"/>
              </a:rPr>
              <a:t>restrain</a:t>
            </a:r>
            <a:r>
              <a:rPr b="1" lang="en-US" sz="5000" spc="-1" strike="noStrike">
                <a:solidFill>
                  <a:srgbClr val="000000"/>
                </a:solidFill>
                <a:latin typeface="Century Gothic"/>
              </a:rPr>
              <a:t> my laughter when the old man started to snore in the middle of church.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990720" y="304920"/>
            <a:ext cx="6933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aramond"/>
              </a:rPr>
              <a:t>dispen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aramond"/>
              <a:ea typeface="Garamond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28600" y="2895480"/>
            <a:ext cx="87631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Garamond"/>
              </a:rPr>
              <a:t>To distribute or give out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05120" y="17524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(verb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6:47:32Z</dcterms:created>
  <dc:creator>Administrator</dc:creator>
  <dc:description/>
  <dc:language>en-US</dc:language>
  <cp:lastModifiedBy>Administrator</cp:lastModifiedBy>
  <dcterms:modified xsi:type="dcterms:W3CDTF">2012-04-23T23:11:46Z</dcterms:modified>
  <cp:revision>46</cp:revision>
  <dc:subject/>
  <dc:title>Slide 1</dc:title>
</cp:coreProperties>
</file>